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C146-F777-4DC3-8E3A-A5B4B4872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512-721B-428D-95F4-17480205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577-CC6B-4702-B3E2-CF0637CA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372-4C3A-43F8-9F6C-F8E59085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1DD-AB3A-4F2E-8729-C23D82C0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B957-1F14-414B-B3BB-DE4DA497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8015-2827-4A7B-A0EB-778BE9AE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B104-FE09-48C9-AD5B-C7E0E67B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2F54-42ED-43D4-A5D6-67959BC9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C749-D7FB-4000-8EC2-14C32F2E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3D98-19F4-4EBE-85F4-D964C815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3907-E4AD-427A-B2AF-25500A24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500-3FE1-44C9-9270-4A8BC9B1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2F44-9493-4646-BF0D-E6C82C17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3CF3-6D57-4036-A46A-304BC144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7DDF-1145-42BD-8958-A97470EF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80DB-64BF-4235-B3FD-D4A7FED4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00FC-82C5-4DEA-AEEE-135BAF19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952-D0E7-4B6B-8CE0-9D5584D2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D27-A3D5-43E1-8BB6-C7C38C2F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D42-CBE2-4335-B45E-690EEECB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9FB-4C81-4BD3-ADE3-4C84CAEC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FDF-EE65-4099-9123-A5CCFCF6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D5D-9AA7-43AB-ACED-FA3E966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9B0-EBBD-4C69-8B53-E96F3F06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2A80-C942-49D5-9077-1F8456FF7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ECC3-52C8-4655-B077-0CD9CF3FD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534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Working With Dual Career Couples: A Ten-Year Persp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John T. Snow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Dean, College of Geoscienc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he University of Oklahoma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Bottomlin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A well-structured, well-implemented dual career couples program, coupled with a supportive institutional environment at all levels, has big payoff for individuals and for the institution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uch an environment also positive for those who are not a dual career coupl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penness, honesty are keys to succes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Goal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uild, sustain a community of scholars who support the institutional missions of teaching, research, and outreach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Hire a diverse mix of individuals who show exceptional promise as scholars/teacher-mentors/researcher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ofessionally develop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Retain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enure/promote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eing a faculty member is not a job, it is a lifestyl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Dual Career Couple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pportunity for both the institution and the coupl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stitution: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Obtain exceptional faculty, some of whom who might not otherwise consider applying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Couple: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Obtain satisfying careers for both partner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uccess depends on the couple, faculty colleagues, and the academic chain of department-college-university administrator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Coupl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Key to success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oth must be sufficiently accomplished that each would be a successful on an independent basi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ach case is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unique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!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Most consider both personal and professional goals as individuals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… and as a couple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ommitment to both personal and professional success of oneself and of one’s partner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penness and honesty, planning essentia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Establish goals, make known early in the interview/hiring proces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Institution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e open, flexible, creative in hiring proces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lear policie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entral administration willing to work with colleges, departments to place/retain a partner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argeted $$$: 1/3 – 1/3 - 1/3 on salary; start-up ???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Provide a supportive environment </a:t>
            </a:r>
            <a:r>
              <a:rPr b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flexibility at the department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Couples happen!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ovide mentoring opportunities for own students/graduates who are couples seeking position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Hiring Issue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Privacy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nstitution legally bound to follow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ndividuals must choose what to reveal and when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ontinues throughout career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te “revelations”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oo Hard To Do” Case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th partners in same (sub-) disciplinary area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Hard to hire in small program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artner’s research area has large start-up costs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Hiring at the senior level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artner is a professional, but not academic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ommunity ties essential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Go extra mile”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Key Milestone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Hir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nitial deal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Receipt of tenure/promotion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Renegotiate the initial deal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Retention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he outside offer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One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th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n-house” couples – numerous combination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Rethink career plan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hallenge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xternal: Child and other family responsibilities (care of elderly parents, relatives)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nternal: Nepotism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Handling of proposals, salary increases, roles in faculty governance, administration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redit for scholarly and research activities if couple are also research partner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nstitution needs to get out in front, develop policy, educate department heads, individual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uccess Divergenc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alary divergenc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Wrong career choice(s)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ad fit to department, institution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Just not an “academic”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Differing expectations w/i the academic community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ailure of partner to obtain tenur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Ready to move on! </a:t>
            </a:r>
            <a:r>
              <a:rPr b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administration, government service, industry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Divorce, affairs, mid-life crises, etc…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3:27:34Z</dcterms:created>
  <dc:creator>John T. Snow</dc:creator>
  <dc:description/>
  <dc:language>en-US</dc:language>
  <cp:lastModifiedBy>John T. Snow</cp:lastModifiedBy>
  <dcterms:modified xsi:type="dcterms:W3CDTF">2004-01-15T14:46:18Z</dcterms:modified>
  <cp:revision>2</cp:revision>
  <dc:subject/>
  <dc:title>Working With Dual Career Couples: A Ten-Year Perspective</dc:title>
</cp:coreProperties>
</file>