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8A1-8816-4A14-A528-1667875FF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1DC-03BD-4C79-A262-0072F97A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CF1-CC48-43F0-B988-9FB68FB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086-DB6C-4CE9-890E-73571212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2BC-2DC7-4EA8-B771-7A58A729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F436-5E26-4702-ACF3-177263F0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F19D-3B3A-4209-889F-4FC446F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8BE1-76CA-49BA-A469-C7615EA1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5A3E-635B-4CC2-A07A-0CA0F144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FE4-38B7-40B6-A7B6-65E3618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B41D-B5F4-467D-99D0-31C34AB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2F3-2683-46C6-B480-BFC80B2C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12C-3077-43C0-8251-05DA64A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A66-EE66-47B3-8C82-C3D9A24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C55C-B0ED-4C87-A7F2-A923BB7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DDC8-6049-4965-9145-207C5606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6A5F-541F-4429-8964-07AAA4D6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60FA-3530-4EC1-BF14-2E1DA720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FDD-9CAB-49BD-977A-F708ECE3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EE3-09D5-43D6-8D0C-95CD4175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536-627B-4D3D-ABF0-ED5D6F40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488-5D4E-4772-B1DB-1A700E12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A71-6693-45F2-9503-D4B1F37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C65-0DDB-46A6-AA47-0D838B8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91-A0DC-4D1E-98AC-174DE11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E4C-1105-45F1-9992-555A48950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9F8-47AC-4EDD-96CB-DD1619360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orking With Dual Career Couples: A Ten-Year Persp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John T. Snow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ean, College of Geoscienc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 University of Oklahoma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Bottomlin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 well-structured, well-implemented dual career couples program, coupled with a supportive institutional environment at all levels, has big payoff for individuals and for the institu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ch an environment also positive for those who are not a dual career coup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enness, honesty are keys to succes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Goal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uild, sustain a community of scholars who support the institutional missions of teaching, research, and outreach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ire a diverse mix of individuals who show exceptional promise as scholars/teacher-mentors/research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fessionally develop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tai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enure/promot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eing a faculty member is not a job, it is a lifesty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Dual Career Coupl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portunity for both the institution and the coupl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itution: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Obtain exceptional faculty, some of whom who might not otherwise consider applying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uple: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Obtain satisfying careers for both partn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uccess depends on the couple, faculty colleagues, and the academic chain of department-college-university administrator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Coupl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Key to success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oth must be sufficiently accomplished that each would be a successful on an independent basis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ach case is 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unique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!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ost consider both personal and professional goals as individuals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… and as a couple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mmitment to both personal and professional success of oneself and of one’s partn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penness and honesty, planning essentia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stablish goals, make known early in the interview/hiring proces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Institution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e open, flexible, creative in hiring proces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lear policie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entral administration willing to work with colleges, departments to place/retain a partn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argeted $$$: 1/3 – 1/3 - 1/3 on salary; start-up ???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ovide a supportive environment </a:t>
            </a: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flexibility at the department level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ouples happen!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vide mentoring opportunities for own students/graduates who are couples seeking position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Hiring Issu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ivac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stitution legally bound to follow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ndividuals must choose what to reveal and when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tinues throughout career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Late “revelations”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oo Hard To Do” Case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th partners in same (sub-) disciplinary area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Hard to hire in small program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artner’s research area has large start-up costs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iring at the senior leve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artner is a professional, but not academic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mmunity ties essential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Go extra mile”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Key Mileston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Hir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nitial dea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ceipt of tenure/promo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negotiate the initial deal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tention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he outside offer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One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th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n-house” couples – numerous combination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Rethink career plan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Challenges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xternal: Child and other family responsibilities (care of elderly parents, relatives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nternal: Nepotism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Handling of proposals, salary increases, roles in faculty governance, administratio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redit for scholarly and research activities if couple are also research partner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nstitution needs to get out in front, develop policy, educate department heads, individuals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uccess Divergence</a:t>
            </a:r>
            <a:endParaRPr b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alary divergenc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Wrong career choice(s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d fit to department, institution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Just not an “academic”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iffering expectations w/i the academic communit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ailure of partner to obtain tenure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Ready to move on! </a:t>
            </a: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administration, government service, industry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Divorce, affairs, mid-life crises, etc…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27:34Z</dcterms:created>
  <dc:creator>John T. Snow</dc:creator>
  <dc:description/>
  <dc:language>en-US</dc:language>
  <cp:lastModifiedBy>John T. Snow</cp:lastModifiedBy>
  <dcterms:modified xsi:type="dcterms:W3CDTF">2004-01-15T14:46:18Z</dcterms:modified>
  <cp:revision>2</cp:revision>
  <dc:subject/>
  <dc:title>Working With Dual Career Couples: A Ten-Year Perspective</dc:title>
</cp:coreProperties>
</file>